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7620-35DC-44C6-8A28-9B769A4A930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65D3-2AAC-48E0-B2D7-B6AB8A7D821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A636-435E-484C-97E8-592E98D7896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FDF4-0B21-4706-AA8D-9B5984E0FD7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9DB6-2F54-49BB-9D79-50E80926D49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B3AC-A5E8-49FE-8195-04668033FD6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F253-93CF-42E3-97CA-95CB447C63B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2328-AC10-48B8-A538-721ED99EF4D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C9BD-3759-4E57-8B71-E76410F7938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B985-B1A8-4467-9EEA-1B223044611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CD91-6EE5-4F8A-8F41-FEAB597EA5C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2374-F5D4-4998-B9F3-8E1E28C2DE5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2E84-A2BB-4F0E-A4D5-2EE85E47DC5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5CFF-DD9E-4315-AF03-7F3413A3AD6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CA1A-FC91-4DC8-BAC5-AA4513E6037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E125-F13F-4EC8-99C7-5C065180161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4FAA-46B1-41E8-88BC-7894BABBB01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DFA2-E7CB-4B6B-8D41-4C9E61AB47E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8F2D-0736-4C54-A56C-5208B002E09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9300-C483-4F9B-A1C3-4FE19D5A32D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102F-85EF-431E-A41A-B5B036135F7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0BF7-A291-419D-BCF1-777970E0065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F7B4-2D28-4052-88EC-E525A2406CF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C423-8993-4448-88C3-E8A2B5B0734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F194-430D-4446-9A19-60B896C8A4F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ED39-7EE7-460A-B723-E42D533BE42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1E42-5FEF-4D53-A84F-F1CE6D9F5D1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FC0C-5C35-4177-BCEC-327C5BFF3C7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6C37-E187-4002-B2F8-A99975C2A57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0576-77A6-4F65-AC22-F51C995A405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AEC-F47A-4ADF-AB10-6270A871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09F-7656-4444-8E1A-2F80B6A0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357-D197-484B-B66A-F1B926B8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405-2F9C-475D-A3E6-0B548DC9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B1D-F794-4985-9956-8737F7B5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8CF-9A59-48F4-B8CB-75C79E3F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9F2-05F2-40C0-86ED-108A8D52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2AE-2248-41F8-8892-142384CF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472-DF67-417B-A310-6A1A4699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2F2-86E6-4E9F-9D4B-CE293F82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938-E1BF-4D18-960F-016D84F2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C37-7904-43F3-9331-64D297F8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http://mx.wrs.yahoo.com/_ylt=A0S0zvkF_kVOs3kAhdLO8Qt./SIG=133ot98b0/EXP=1313238661/**http%3a/www.blueskiesmusic.net/sitebuilder/images/Blue_background_2-1184x757.jpg"/>
          <p:cNvPicPr/>
          <p:nvPr/>
        </p:nvPicPr>
        <p:blipFill>
          <a:blip r:embed="rId2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B580-95F0-4EE1-B20D-046475B0FB6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5 Marcador de número de diapositiva"/>
          <p:cNvSpPr/>
          <p:nvPr/>
        </p:nvSpPr>
        <p:spPr>
          <a:xfrm>
            <a:off x="6705720" y="6093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Presentación elaborada por Enrique Lepe Gar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Calibri"/>
              </a:rPr>
              <a:t>Principales cambios en el Currículum 2011</a:t>
            </a:r>
            <a:endParaRPr b="1" lang="en-US" sz="5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f0"/>
                </a:solidFill>
                <a:latin typeface="Calibri"/>
              </a:rPr>
              <a:t>Enrique Lepe García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2 Subtítulo"/>
          <p:cNvSpPr/>
          <p:nvPr/>
        </p:nvSpPr>
        <p:spPr>
          <a:xfrm>
            <a:off x="2268360" y="55897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equisquiapan, Qro., 13 de agosto d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000"/>
                </a:solidFill>
                <a:latin typeface="Calibri"/>
              </a:rPr>
              <a:t>Los campos de formación para la Educación Básica son:</a:t>
            </a:r>
            <a:endParaRPr b="1" lang="en-US" sz="40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Lenguaje y comunicación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ensamiento matemático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Exploración y comprensión del mundo natural y social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Desarrollo personal y para la convivencia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000"/>
                </a:solidFill>
                <a:latin typeface="Calibri"/>
              </a:rPr>
              <a:t>VI.1 Campo de formación: Lenguaje y comunicación</a:t>
            </a:r>
            <a:endParaRPr b="1" lang="en-US" sz="40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Calibri"/>
              </a:rPr>
              <a:t>VI.1.1. Campo formativo: Lenguaje y comunicación en preescolar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Calibri"/>
              </a:rPr>
              <a:t>VI.1.2. Segunda Lengua: Inglés en preescolar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Calibri"/>
              </a:rPr>
              <a:t>VI.1.3. Español en primaria y secundaria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Calibri"/>
              </a:rPr>
              <a:t>VI.1.4. Lengua Indígena en primaria para las escuelas de educación indígena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Calibri"/>
              </a:rPr>
              <a:t>VI.1.5. Segunda Lengua: Inglés en primaria y secundaria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3090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67000" y="1447920"/>
            <a:ext cx="6210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86080" y="1347840"/>
            <a:ext cx="6172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CAMBIOS EN LOS PROGRAMAS DE ESPAÑOL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b0f0"/>
                </a:solidFill>
                <a:latin typeface="Calibri"/>
              </a:rPr>
              <a:t>REVISIÓN GENERA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c000"/>
                </a:solidFill>
                <a:latin typeface="Calibri"/>
              </a:rPr>
              <a:t>XI.2.1. Estándares de Español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Calibri"/>
              </a:rPr>
              <a:t>Los Estándares Curriculares de Español integran los elementos que permiten a los estudiantes de Educación Básica usar con eficacia el lenguaje como herramienta de comunicación y para seguir aprendiendo. </a:t>
            </a:r>
            <a:endParaRPr b="1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Calibri"/>
              </a:rPr>
              <a:t>Se agrupan en cinco componentes, cada uno de ellos refiere y refleja aspectos centrales de los programas de estudio:</a:t>
            </a:r>
            <a:endParaRPr b="1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Procesos de lectura e interpretación de texto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Producción de textos escrito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Producción de textos orales y participación en eventos comunicativo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Conocimiento de las características, función y uso del lenguaje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Actitudes hacia el lenguaje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Estándares 2º periodo (1º a 3º)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Al concluir este periodo escolar los estudiantes habrán iniciado un proceso de </a:t>
            </a:r>
            <a:r>
              <a:rPr b="1" lang="es-MX" sz="1800" spc="-1" strike="noStrike">
                <a:solidFill>
                  <a:srgbClr val="ffff00"/>
                </a:solidFill>
                <a:latin typeface="Calibri"/>
              </a:rPr>
              <a:t>contacto formal con el lenguaje escrito, por medio de la exploración de textos con diferentes características</a:t>
            </a: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: libros, periódicos e instructivos, entre otros. Construyen el significado de la escritura y su utilidad para comunicar. Comienzan el trazo de letras, hasta lograr escribir su nombre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Como parte de este desarrollo, participan en eventos comunicativos orales en los que escuchan a otros y respetan turnos para tomar la palabra, lo cual constituye logro para su edad. Adicionalmente, identifican que las personas se comunican por medio de lenguas diferentes a la suya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Lo anterior permite generar las bases para conformar un concepto positivo de sí mismos como hablantes, lectores y escritores; aspectos esenciales para su integración a la cultura escrita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Procesos de lectura e interpretación de textos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Selecciona textos de acuerdo con sus propios intereses y/o propósito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2. Interpreta la lectura de textos literarios elementales (cuentos, leyendas, poemas), así como de textos informativo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3. Interpreta que los textos escritos y las imágenes crean un significado al conjuntarse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4. Identifica los diversos propósitos de textos literarios (por ejemplo, cuentos) y de textos informativo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5. Identifica los diferentes tipos de información contenida en textos escritos elementales, tales como ilustraciones, gráficas y mapa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6. Identifica las diferentes partes de un libro; por ejemplo, la portada, el título, el subtítulo, la contraportada, las ilustraciones (imágenes), el índice y los números de página y explica, con apoyo, qué información ofrecen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7. Compara y contrasta información factual contenida en los libros con experiencias propia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8. Comprende instructivos elementales que incorporan imágenes; por ejemplo, recetas o procedimientos para construir objeto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.9. Identifica la escritura convencional de los número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CAMBIOS EN EL PROGRAMA DE ESPAÑOL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b0f0"/>
                </a:solidFill>
                <a:latin typeface="Calibri"/>
              </a:rPr>
              <a:t>ESTRUCTURA DEL PROGRAMA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166840" y="314280"/>
            <a:ext cx="48103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01640" y="0"/>
            <a:ext cx="746928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582560" y="0"/>
            <a:ext cx="6032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46c0a"/>
                </a:solidFill>
                <a:latin typeface="Calibri"/>
              </a:rPr>
              <a:t>COMPARACIÓN DE LA ESTRUCTURA DE LOS PROGRAMAS DE ESPAÑOL</a:t>
            </a:r>
            <a:endParaRPr b="1" lang="en-US" sz="40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2d050"/>
                </a:solidFill>
                <a:latin typeface="Calibri"/>
              </a:rPr>
              <a:t>TRABAJO EN EQUIPOS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01600" y="189000"/>
            <a:ext cx="88344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61960" y="1019160"/>
            <a:ext cx="80200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e46c0a"/>
                </a:solidFill>
                <a:latin typeface="Calibri"/>
              </a:rPr>
              <a:t>Lo que no cambia (ni cambiará)</a:t>
            </a:r>
            <a:endParaRPr b="1" lang="en-US" sz="72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b0f0"/>
                </a:solidFill>
                <a:latin typeface="Calibri"/>
              </a:rPr>
              <a:t>En el aprendizaje del Lenguaj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Cómo se aprende el lenguaje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Cuando se interactúa con los textos para buscar significados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Cuando se interactúa con otros, en contextos reales y con propósitos auténticos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Cuando se usa el lenguaje del contexto real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Cómo se aprende el lenguaje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pic>
        <p:nvPicPr>
          <p:cNvPr id="93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Cómo aprenden a leer y a escribir los niños…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ocer las etapas por las que transitan los alumnos en la apropiación del sistema de escritura constituye una herramienta para los docentes de primer y segundo grados, pues proporciona referentes sobre sus procesos de aprendizaje, así como elementos para su intervención durante el desarrollo y planificación de los proyectos didácticos”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99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Calibri"/>
              </a:rPr>
              <a:t>p. 40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11280" y="44280"/>
            <a:ext cx="7489800" cy="2441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47640" y="2454120"/>
            <a:ext cx="7453440" cy="4359600"/>
          </a:xfrm>
          <a:prstGeom prst="rect">
            <a:avLst/>
          </a:prstGeom>
          <a:ln w="0">
            <a:noFill/>
          </a:ln>
        </p:spPr>
      </p:pic>
      <p:sp>
        <p:nvSpPr>
          <p:cNvPr id="98" name="3 Rectángulo"/>
          <p:cNvSpPr/>
          <p:nvPr/>
        </p:nvSpPr>
        <p:spPr>
          <a:xfrm>
            <a:off x="7818480" y="6237360"/>
            <a:ext cx="11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99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p. 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249120" y="249120"/>
            <a:ext cx="5132160" cy="653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432320" y="426960"/>
            <a:ext cx="479088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81000" y="189000"/>
            <a:ext cx="4562280" cy="601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73720" y="423720"/>
            <a:ext cx="456228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290680" y="423720"/>
            <a:ext cx="45626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ALGUNOS CAMBIOS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alibri"/>
              </a:rPr>
              <a:t>Se incluyen los Estándares Curricular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alibri"/>
              </a:rPr>
              <a:t>Durante el ciclo escolar 2011-2012 se implementará una boleta de transición en primaria y secundaria, en la que se incorporan Estándares de Habilidad Lectora y el criterio </a:t>
            </a:r>
            <a:r>
              <a:rPr b="1" i="1" lang="es-MX" sz="3000" spc="-1" strike="noStrike">
                <a:solidFill>
                  <a:srgbClr val="ffffff"/>
                </a:solidFill>
                <a:latin typeface="Calibri"/>
              </a:rPr>
              <a:t>Aprobado con condiciones. La aplicación de esta boleta reconoce la necesidad de realizar registros </a:t>
            </a:r>
            <a:r>
              <a:rPr b="1" lang="es-MX" sz="3000" spc="-1" strike="noStrike">
                <a:solidFill>
                  <a:srgbClr val="ffffff"/>
                </a:solidFill>
                <a:latin typeface="Calibri"/>
              </a:rPr>
              <a:t>que permitan trazar trayectos de atención personalizada para los estudiant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MAPA CURRICULAR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Calibri"/>
              </a:rPr>
              <a:t>El mapa curricular de la Educación Básica se representa por espacios organizados en cuatro campos de formación, que permiten visualizar de manera gráfica la articulación Curricular</a:t>
            </a:r>
            <a:endParaRPr b="1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Calibri"/>
              </a:rPr>
              <a:t>En el mapa curricular puede observarse de manera horizontal, la secuencia y gradualidad de las asignaturas que constituyen la Educación Básica. </a:t>
            </a:r>
            <a:endParaRPr b="1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Calibri"/>
              </a:rPr>
              <a:t>La organización vertical en periodos escolares indica la progresión de los Estándares Curriculares de Español, Matemáticas, Ciencias, Segunda Lengua: Inglés y Habilidades Digitales.</a:t>
            </a:r>
            <a:endParaRPr b="1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6818" t="5845" r="8803" b="0"/>
          <a:stretch/>
        </p:blipFill>
        <p:spPr>
          <a:xfrm>
            <a:off x="755640" y="0"/>
            <a:ext cx="712944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7424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00:33:35Z</dcterms:created>
  <dc:creator>ENRIQUE LEPE</dc:creator>
  <dc:description/>
  <dc:language>en-US</dc:language>
  <cp:lastModifiedBy>Enrique Lepe</cp:lastModifiedBy>
  <dcterms:modified xsi:type="dcterms:W3CDTF">2011-08-13T13:20:30Z</dcterms:modified>
  <cp:revision>8</cp:revision>
  <dc:subject/>
  <dc:title>Diapositiva 1</dc:title>
</cp:coreProperties>
</file>